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923088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9228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8"/>
          </p:nvPr>
        </p:nvSpPr>
        <p:spPr>
          <a:xfrm>
            <a:off x="391968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58840" y="690120"/>
            <a:ext cx="4603680" cy="345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9"/>
          </p:nvPr>
        </p:nvSpPr>
        <p:spPr>
          <a:xfrm>
            <a:off x="0" y="874512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40"/>
          </p:nvPr>
        </p:nvSpPr>
        <p:spPr>
          <a:xfrm>
            <a:off x="3919680" y="874512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54E-540F-4D5B-991C-B87ABF1232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91920" y="4373280"/>
            <a:ext cx="55371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Espaço Reservado para Número de Slide 3"/>
          <p:cNvSpPr/>
          <p:nvPr/>
        </p:nvSpPr>
        <p:spPr>
          <a:xfrm>
            <a:off x="3919680" y="874548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053-3AB9-490C-9582-1F9CB39A230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7DD7-7094-4F7F-BA93-86096D049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E9EC8-C28B-4D1A-AE3E-0C5FA8060E3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E6582-D667-4E9E-8C50-C7762F3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EEC8E-641C-4131-8569-DDB6F586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C5511-99BB-4363-B47F-55A0A683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24D73-5A30-407F-A205-44FE7DE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CCACC-7232-48E6-9414-8C590F4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60D2C-CA0D-4334-9A7C-D1D2A32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B831C-6059-4B4C-819E-C42BF51F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3957A9-FFBC-45F3-B46B-CBDF4B74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35216-1873-4887-80D7-70843A80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56EF7-0E65-4732-9CBD-C1E570719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13CC-B82C-474C-AE76-31AB6AAE8B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5734F-9B7A-420A-AEE9-F0399263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CBB09-2706-4E5D-9887-BD0F8D5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1DD52-D2B3-4D09-B516-60AAD86F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0879B-D878-4236-B21D-3BC2E15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32847-2709-4CA5-B7B4-F32F364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51CBD-BC73-4A19-8875-002979B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0BDDF-EAC8-4133-88FE-B60D9B70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67ECD-A37C-4142-8B4E-4E9A7224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D1BEA-3993-48EC-8C8B-CB2C269C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6111E-6C83-4677-88D0-F2EA118F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3961-EFF6-4B05-9943-45AD45BC881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27252-164C-413C-915C-F540C30F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2B07E5-11F3-4294-B6AE-25D1A51C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B26A89-2A4D-4721-AD19-F264399E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E07265-E205-4EC3-A95F-36F5CBD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27CF87-86D3-4FA2-823F-F083E8D9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D34086-284F-45DA-A119-2360434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F53C35-E9B4-4726-9194-9227DB51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B16FDE-B89F-460D-973D-D39AD577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994B6B-7A08-4422-9B00-C2AD728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ECD7FD-36D6-4B88-ADAD-73198381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54537-0FA3-4D8F-B382-2857EF27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1EDBA7-C511-42D0-BAB9-7A102E54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42B606-8D7B-4CB8-B6EA-0E0982D6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F80133-31A1-4BFA-86A1-34D29039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8F357-CE1A-4604-BEE4-E2630D54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46427C-5F0B-4C2F-851F-C3BAAC2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665FD-CDE7-4ED6-91A5-12E831D7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09136-B2C3-4142-B6D0-AFAE7BA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FBC395-451F-43E7-86D5-F3E6240C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4E3A0-B501-4A03-A17F-967F753F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BAC61-80A0-4329-89F0-CFD4B6E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83AA-BA9F-4DD1-9390-C3945C5B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A6D6A-9D7B-4FCC-ABB3-0B2E6407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75F68-E006-4DB2-BED3-58844584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12292E-FA9E-434D-B39C-71BBED29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78474-0400-4E14-97F9-B14C9D09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5CC94C-A77F-4833-B42C-E40C1D07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55718E-5C8F-4593-9981-F09A9B5A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3B9DD8-53F3-412C-B59C-B6DF150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16B758-58C7-4EDD-88E5-CF805AC0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387BC4-4738-47B0-AEF7-F50DB4DC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667704-5A49-4924-9B6C-8C8D222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F1134-01DE-4089-8ED0-91182D28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714126-FDDE-423A-84F8-F6BC1B0A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4A40C6-DED8-413E-816D-C8698E7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3857EA-1169-481A-90D1-3A8982E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66FD8A-E9BD-43A9-A0E3-FF49F4B0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869DDE-2D58-4B84-95C4-B94F6371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783C2D-E275-4361-9C28-3922C1CF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DE6F15-D177-465F-AB53-FD5B23F8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5C79-F462-48DD-9E93-7BE159B8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406D-AC0E-47B5-B20B-2AE6997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8ABAE-93C7-4738-93A3-B1E2DF43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F5B7-487C-454D-AF5F-9E78303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CFE1-5B6D-416E-AD48-72A626E73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18359-DB89-429E-9FFA-C69EB18F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234AB-3914-4382-825B-78C8A9BD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9514F-E0AD-4278-A7C9-1AC9F28E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CFE03-AAF6-4CC3-86CE-1705EEF5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71734-F7A5-495D-AF04-97CF887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23E66-B440-4DD7-AFC6-2C436173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DB4C38-F719-464A-8876-594177C5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37FBE-D831-4C4A-9EA0-D65D014A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2FC3E-2365-40B2-8B26-356E462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FCE7AE-CCE3-4CDE-9BDD-93E5C89B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E302-E035-45C7-ADBE-A0E5A6ED5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3E9EE4-B925-4C74-8555-DB6C912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F829B-6C14-4185-8ED4-53F7C05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304734-67BA-4451-9C2C-B9467AD3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261B3-BC4B-4A33-9BA1-5F48ECE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1B66F3-6778-42BD-874F-2CDD7B40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968BD-A5B0-4088-A504-8B6DC858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4033B-3114-4477-9479-4707FA73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DE4C4-4B8F-4D37-8176-55E79525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D7348-D972-4356-8675-813325CA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E8C6B-46EA-4C7F-A3CC-91657826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9D72-71CC-459E-9B5C-80D4025822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51FBFF-3DB2-421C-A3E1-3ADA1CF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B28AA-26D0-43D9-8781-F456178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1FA4B-FA46-40B8-8325-CF423E3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4C29F3-1EBC-4727-8B45-63F0137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33397-1422-4421-B907-2843433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480B2A-7819-4C64-89FF-21D9B79C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80B738-E943-4857-B878-2B0D16DB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E8009-004D-4AA3-AFDE-AD26C417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F6076-9C60-415B-B040-A6416786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4AAFF-8509-4FB3-910C-FC12AED4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27BC-9B06-4048-A71F-D767BF56FC4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C365D-1268-448E-8B65-90F7701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EB3A51-60F6-43D4-AB95-252C98D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6535DA-D63B-4E7A-9673-1B36949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E92434-B367-47D8-961C-C857C8ED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3E74E-CA4F-42A6-A55B-2CB4590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DB817-0170-4D2A-96C0-2171DB47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A9519C-0AF1-4A4E-95C4-18BD72D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E05109-2B3E-4F82-8DB3-87FDA10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914283-1997-41DA-87CB-6337F5D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D8F30-175A-42AB-ACF6-7AF9B28A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03AB-98E6-4FDF-814F-482FAA97198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495D2-ADD1-4940-AD44-3662FE97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3445B1-18BA-4306-92A7-B2CF7394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ABB992-3349-4AD7-A92F-33B3FD70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A3249C-496B-4116-82FB-83D9234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E6665-9981-44E4-AC92-BC66A3AB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C28482-5300-4344-A2B3-5C04BD46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81486D-83BD-49DF-AEF2-E6D7FB5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9FC344-57A7-4E17-9B28-C7C58C1C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FD150-6103-46E0-8503-E0FC287B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01A5A-2E1A-42E5-9604-3DB5575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14E6-4096-470B-BF44-CE50DF12E0F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ADE631-A013-4E0C-8D28-34FE5B09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1AB26C-0632-40C0-BA6E-D42164FB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6B3CB9-EBB3-413A-816C-C6D1F10B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C1C17-7B8D-4A3A-A6BB-2DEE690A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AA2D9-A994-4CA7-9D99-C4907D0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194222-D09B-44C7-857C-E0AB01D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A5661E-CD2B-4A6D-934B-B84306D7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036173-B014-481B-B22A-1DDE0231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770F3C-59D0-4D9F-8F7E-CF7E3255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2A299C-BDED-4C75-A6B0-D2C84E6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2768-E3C7-456A-B649-DE42397BEA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1E61C-DD40-49CF-9823-6373C4BC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0CA55D-4ED3-496E-B800-6E2C2026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713176-6354-4279-AE43-4E0A6155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E0DFC5-1618-4CEC-B961-0F3A3786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5F206-75C7-44D8-979A-BF34C4AF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60E5C-D676-4BEE-BC1F-3480927D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5CE59-BD59-45B5-9452-DF388566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33857F-684C-4C29-B7AF-70494B19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37A8AE-671C-4DE2-AA70-277F3B5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6A12A-1379-44DF-B857-451D343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2489-874A-4BED-9BFB-AFCE636617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E0D2BA-A362-4135-87E8-2297DFC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9A5CD-C1D9-4B2F-B026-C360C4F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C4ABC9-2A7B-45A3-9716-500B788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ED6391-8DD9-425E-B14F-E9EC24BA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BAE7D2-7C29-4077-849A-FEB7E7FB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1AF443-CD3E-49F0-9813-31007112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2BD7B2-5D0B-4D4D-9395-E0E0D4ED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3DD1E6-D82C-4A32-8247-D2D9DB3C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78E21-CDE7-41CE-BC1B-AA179E36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EF4EA-15B7-45A4-84E1-C37DADD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48F0-D9F6-44B9-B193-E48E74D807B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7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79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CC3-2849-45C0-8C8E-D519B26E5A5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2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21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pic>
        <p:nvPicPr>
          <p:cNvPr id="422" name="Imagem 7" descr="template_ppt.jpg"/>
          <p:cNvPicPr/>
          <p:nvPr/>
        </p:nvPicPr>
        <p:blipFill>
          <a:blip r:embed="rId5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"/>
          <p:cNvPicPr/>
          <p:nvPr/>
        </p:nvPicPr>
        <p:blipFill>
          <a:blip r:embed="rId6"/>
          <a:stretch/>
        </p:blipFill>
        <p:spPr>
          <a:xfrm>
            <a:off x="404640" y="236520"/>
            <a:ext cx="2667240" cy="536760"/>
          </a:xfrm>
          <a:prstGeom prst="rect">
            <a:avLst/>
          </a:prstGeom>
          <a:ln w="0">
            <a:noFill/>
          </a:ln>
        </p:spPr>
      </p:pic>
      <p:pic>
        <p:nvPicPr>
          <p:cNvPr id="424" name="Imagem 9" descr="malha_construtiva.jpg"/>
          <p:cNvPicPr/>
          <p:nvPr/>
        </p:nvPicPr>
        <p:blipFill>
          <a:blip r:embed="rId7"/>
          <a:stretch/>
        </p:blipFill>
        <p:spPr>
          <a:xfrm>
            <a:off x="7000920" y="357120"/>
            <a:ext cx="1852560" cy="46368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7576-36C5-452C-B958-3B38AF4281A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65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466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B61C-B669-478B-B77F-2C6A2004169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507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508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4BC-EB24-4765-AA0D-8FF4D7EB753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B1D-62A8-4613-9544-F26CD24E6DE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83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7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ADB-3E84-4D01-92C7-F48FC3F36C6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0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5CE-1171-4B31-8565-CA042566EAC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168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3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E20F-459D-4B05-AAE8-6AE4E0A6AD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10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11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6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F7FA-471F-4F68-8CEA-DAEFABB50C7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53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9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FD3-EB04-4CCB-BCA9-C89D0E8C235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94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295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2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2B60-A327-466B-9F03-4C017204B06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336" name="Imagem 11" descr="evolução-da-malha.png"/>
          <p:cNvPicPr/>
          <p:nvPr/>
        </p:nvPicPr>
        <p:blipFill>
          <a:blip r:embed="rId3"/>
          <a:stretch/>
        </p:blipFill>
        <p:spPr>
          <a:xfrm>
            <a:off x="357120" y="6227640"/>
            <a:ext cx="1714680" cy="441360"/>
          </a:xfrm>
          <a:prstGeom prst="rect">
            <a:avLst/>
          </a:prstGeom>
          <a:ln w="0">
            <a:noFill/>
          </a:ln>
        </p:spPr>
      </p:pic>
      <p:pic>
        <p:nvPicPr>
          <p:cNvPr id="337" name="Imagem 2" descr=""/>
          <p:cNvPicPr/>
          <p:nvPr/>
        </p:nvPicPr>
        <p:blipFill>
          <a:blip r:embed="rId4"/>
          <a:stretch/>
        </p:blipFill>
        <p:spPr>
          <a:xfrm>
            <a:off x="7236000" y="6093000"/>
            <a:ext cx="1512720" cy="5778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5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FED-61A6-4914-B82B-7D9D8E05FCE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tângulo 4"/>
          <p:cNvSpPr/>
          <p:nvPr/>
        </p:nvSpPr>
        <p:spPr>
          <a:xfrm>
            <a:off x="0" y="4608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9129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70945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1692000" y="2636640"/>
            <a:ext cx="70945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99"/>
                </a:solidFill>
                <a:latin typeface="Calibri"/>
              </a:rPr>
              <a:t>Regulamentação do Pedido de Cancelamento ou Exclusão pelo Beneficiário de Plano de Saúd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- Câmara Téc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Coordenação: DIPRO/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Imagem 1" descr=""/>
          <p:cNvPicPr/>
          <p:nvPr/>
        </p:nvPicPr>
        <p:blipFill>
          <a:blip r:embed="rId2"/>
          <a:stretch/>
        </p:blipFill>
        <p:spPr>
          <a:xfrm>
            <a:off x="5508720" y="1276200"/>
            <a:ext cx="2616120" cy="1000440"/>
          </a:xfrm>
          <a:prstGeom prst="rect">
            <a:avLst/>
          </a:prstGeom>
          <a:ln w="0">
            <a:noFill/>
          </a:ln>
        </p:spPr>
      </p:pic>
      <p:sp>
        <p:nvSpPr>
          <p:cNvPr id="560" name="Retângulo 1"/>
          <p:cNvSpPr/>
          <p:nvPr/>
        </p:nvSpPr>
        <p:spPr>
          <a:xfrm>
            <a:off x="1692360" y="2276640"/>
            <a:ext cx="709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PLANO COLETIVO POR ADES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Grupo 13"/>
          <p:cNvGrpSpPr/>
          <p:nvPr/>
        </p:nvGrpSpPr>
        <p:grpSpPr>
          <a:xfrm>
            <a:off x="57240" y="1158840"/>
            <a:ext cx="9009000" cy="5783400"/>
            <a:chOff x="57240" y="1158840"/>
            <a:chExt cx="9009000" cy="5783400"/>
          </a:xfrm>
        </p:grpSpPr>
        <p:sp>
          <p:nvSpPr>
            <p:cNvPr id="633" name="Forma livre 14"/>
            <p:cNvSpPr/>
            <p:nvPr/>
          </p:nvSpPr>
          <p:spPr>
            <a:xfrm>
              <a:off x="92160" y="4830840"/>
              <a:ext cx="8974080" cy="1262160"/>
            </a:xfrm>
            <a:prstGeom prst="pie">
              <a:avLst/>
            </a:prstGeom>
            <a:solidFill>
              <a:srgbClr val="e8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5953680" tIns="99720" bIns="9972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Operadora responde à quem lhe encaminhou a solicitação: Administradora ou P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+ Beneficiá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orma livre 15"/>
            <p:cNvSpPr/>
            <p:nvPr/>
          </p:nvSpPr>
          <p:spPr>
            <a:xfrm>
              <a:off x="57240" y="3686040"/>
              <a:ext cx="4467240" cy="1020600"/>
            </a:xfrm>
            <a:custGeom>
              <a:avLst/>
              <a:gdLst/>
              <a:ahLst/>
              <a:rect l="l" t="t" r="r" b="b"/>
              <a:pathLst>
                <a:path w="3898790" h="721985">
                  <a:moveTo>
                    <a:pt x="0" y="72199"/>
                  </a:moveTo>
                  <a:cubicBezTo>
                    <a:pt x="0" y="32325"/>
                    <a:pt x="32325" y="0"/>
                    <a:pt x="72199" y="0"/>
                  </a:cubicBezTo>
                  <a:lnTo>
                    <a:pt x="3826592" y="0"/>
                  </a:lnTo>
                  <a:cubicBezTo>
                    <a:pt x="3866466" y="0"/>
                    <a:pt x="3898791" y="32325"/>
                    <a:pt x="3898791" y="72199"/>
                  </a:cubicBezTo>
                  <a:cubicBezTo>
                    <a:pt x="3898791" y="264728"/>
                    <a:pt x="3898790" y="457258"/>
                    <a:pt x="3898790" y="649787"/>
                  </a:cubicBezTo>
                  <a:cubicBezTo>
                    <a:pt x="3898790" y="689661"/>
                    <a:pt x="3866465" y="721986"/>
                    <a:pt x="3826591" y="721986"/>
                  </a:cubicBezTo>
                  <a:lnTo>
                    <a:pt x="72199" y="721985"/>
                  </a:lnTo>
                  <a:cubicBezTo>
                    <a:pt x="32325" y="721985"/>
                    <a:pt x="0" y="689660"/>
                    <a:pt x="0" y="649786"/>
                  </a:cubicBezTo>
                  <a:lnTo>
                    <a:pt x="0" y="72199"/>
                  </a:lnTo>
                  <a:close/>
                </a:path>
              </a:pathLst>
            </a:custGeom>
            <a:solidFill>
              <a:srgbClr val="e8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2828520" tIns="99360" bIns="9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orma livre 16"/>
            <p:cNvSpPr/>
            <p:nvPr/>
          </p:nvSpPr>
          <p:spPr>
            <a:xfrm>
              <a:off x="92160" y="2106360"/>
              <a:ext cx="8890200" cy="1311120"/>
            </a:xfrm>
            <a:custGeom>
              <a:avLst/>
              <a:gdLst/>
              <a:ahLst/>
              <a:rect l="l" t="t" r="r" b="b"/>
              <a:pathLst>
                <a:path w="4258745" h="721985">
                  <a:moveTo>
                    <a:pt x="0" y="72199"/>
                  </a:moveTo>
                  <a:cubicBezTo>
                    <a:pt x="0" y="32325"/>
                    <a:pt x="32325" y="0"/>
                    <a:pt x="72199" y="0"/>
                  </a:cubicBezTo>
                  <a:lnTo>
                    <a:pt x="4186547" y="0"/>
                  </a:lnTo>
                  <a:cubicBezTo>
                    <a:pt x="4226421" y="0"/>
                    <a:pt x="4258746" y="32325"/>
                    <a:pt x="4258746" y="72199"/>
                  </a:cubicBezTo>
                  <a:cubicBezTo>
                    <a:pt x="4258746" y="264728"/>
                    <a:pt x="4258745" y="457258"/>
                    <a:pt x="4258745" y="649787"/>
                  </a:cubicBezTo>
                  <a:cubicBezTo>
                    <a:pt x="4258745" y="689661"/>
                    <a:pt x="4226420" y="721986"/>
                    <a:pt x="4186546" y="721986"/>
                  </a:cubicBezTo>
                  <a:lnTo>
                    <a:pt x="72199" y="721985"/>
                  </a:lnTo>
                  <a:cubicBezTo>
                    <a:pt x="32325" y="721985"/>
                    <a:pt x="0" y="689660"/>
                    <a:pt x="0" y="649786"/>
                  </a:cubicBezTo>
                  <a:lnTo>
                    <a:pt x="0" y="72199"/>
                  </a:lnTo>
                  <a:close/>
                </a:path>
              </a:pathLst>
            </a:custGeom>
            <a:solidFill>
              <a:srgbClr val="e8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3080520" tIns="99360" bIns="9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orma livre 17"/>
            <p:cNvSpPr/>
            <p:nvPr/>
          </p:nvSpPr>
          <p:spPr>
            <a:xfrm>
              <a:off x="92160" y="1158840"/>
              <a:ext cx="8506080" cy="855720"/>
            </a:xfrm>
            <a:prstGeom prst="pie">
              <a:avLst/>
            </a:prstGeom>
            <a:solidFill>
              <a:srgbClr val="e8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5953680" tIns="99720" bIns="99720" anchor="ctr">
              <a:noAutofit/>
            </a:bodyPr>
            <a:p>
              <a:pPr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1" lang="pt-BR" sz="1400" spc="-1" strike="noStrike">
                  <a:solidFill>
                    <a:srgbClr val="000000"/>
                  </a:solidFill>
                  <a:latin typeface="Calibri"/>
                </a:rPr>
                <a:t>Iníc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orma livre 18"/>
            <p:cNvSpPr/>
            <p:nvPr/>
          </p:nvSpPr>
          <p:spPr>
            <a:xfrm>
              <a:off x="1187280" y="1258560"/>
              <a:ext cx="5834160" cy="68400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BENEFICIÁRIO DESEJA SOLICITAR A SUA EXCLUSÃO DO PLANO DE SAÚDE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orma livre 20"/>
            <p:cNvSpPr/>
            <p:nvPr/>
          </p:nvSpPr>
          <p:spPr>
            <a:xfrm>
              <a:off x="1414440" y="2535120"/>
              <a:ext cx="1717560" cy="77292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44280" bIns="442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311040"/>
                  <a:tab algn="l" pos="622440"/>
                  <a:tab algn="l" pos="933480"/>
                  <a:tab algn="l" pos="1244520"/>
                  <a:tab algn="l" pos="1555920"/>
                  <a:tab algn="l" pos="1866960"/>
                  <a:tab algn="l" pos="2178000"/>
                  <a:tab algn="l" pos="2489040"/>
                  <a:tab algn="l" pos="2800440"/>
                  <a:tab algn="l" pos="3111480"/>
                  <a:tab algn="l" pos="3422520"/>
                  <a:tab algn="l" pos="3733920"/>
                  <a:tab algn="l" pos="4044960"/>
                  <a:tab algn="l" pos="4356000"/>
                  <a:tab algn="l" pos="4667400"/>
                  <a:tab algn="l" pos="4978440"/>
                  <a:tab algn="l" pos="5289480"/>
                  <a:tab algn="l" pos="5600880"/>
                  <a:tab algn="l" pos="5911920"/>
                  <a:tab algn="l" pos="6222960"/>
                </a:tabLst>
              </a:pPr>
              <a:r>
                <a:rPr b="1" lang="pt-BR" sz="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pt-BR" sz="1400" spc="-1" strike="noStrike">
                  <a:solidFill>
                    <a:srgbClr val="17375e"/>
                  </a:solidFill>
                  <a:latin typeface="Calibri"/>
                </a:rPr>
                <a:t>SOLICITA À PESSOA JURÍDICA CONTRAT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orma livre 22"/>
            <p:cNvSpPr/>
            <p:nvPr/>
          </p:nvSpPr>
          <p:spPr>
            <a:xfrm>
              <a:off x="1401840" y="3789360"/>
              <a:ext cx="1946160" cy="62532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59400" bIns="594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alibri"/>
                </a:rPr>
                <a:t>Envio da solicitação à operador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orma livre 26"/>
            <p:cNvSpPr/>
            <p:nvPr/>
          </p:nvSpPr>
          <p:spPr>
            <a:xfrm>
              <a:off x="3462480" y="2239920"/>
              <a:ext cx="2438280" cy="10540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55800" bIns="558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pt-BR" sz="14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pt-BR" sz="1400" spc="-1" strike="noStrike">
                  <a:solidFill>
                    <a:srgbClr val="ffff00"/>
                  </a:solidFill>
                  <a:latin typeface="Calibri"/>
                </a:rPr>
                <a:t>SOLICITA À  ADMINISTRADORA E RECEBE PROTOCOLO DE SOLICITAÇÃO COM INFORMAÇÕES  SOBRE AS CONSEQUÊNCIAS DO PEDI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orma livre 27"/>
            <p:cNvSpPr/>
            <p:nvPr/>
          </p:nvSpPr>
          <p:spPr>
            <a:xfrm>
              <a:off x="5808600" y="3363840"/>
              <a:ext cx="91800" cy="498240"/>
            </a:xfrm>
            <a:custGeom>
              <a:avLst/>
              <a:gdLst>
                <a:gd name="textAreaLeft" fmla="*/ 0 w 91800"/>
                <a:gd name="textAreaRight" fmla="*/ 91800 w 9180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90523" h="420440">
                  <a:moveTo>
                    <a:pt x="45720" y="0"/>
                  </a:moveTo>
                  <a:lnTo>
                    <a:pt x="45720" y="42021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orma livre 28"/>
            <p:cNvSpPr/>
            <p:nvPr/>
          </p:nvSpPr>
          <p:spPr>
            <a:xfrm>
              <a:off x="3786120" y="3541680"/>
              <a:ext cx="4602240" cy="97632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59400" bIns="594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Calibri"/>
                </a:rPr>
                <a:t>Operadora/Administradora envia ao beneficiário o comprovante da solicitação (efeito imediato à data da ciência da operadora/adm.) com as informações sobre  as consequências da exclusão do pl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orma livre 32"/>
            <p:cNvSpPr/>
            <p:nvPr/>
          </p:nvSpPr>
          <p:spPr>
            <a:xfrm>
              <a:off x="6142320" y="2239920"/>
              <a:ext cx="2695320" cy="1066680"/>
            </a:xfrm>
            <a:prstGeom prst="pie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55800" bIns="55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pt-BR" sz="1400" spc="-1" strike="noStrike">
                  <a:solidFill>
                    <a:srgbClr val="4a452a"/>
                  </a:solidFill>
                  <a:latin typeface="Calibri"/>
                </a:rPr>
                <a:t>SOLICITA À OPERADORA E RECEBE PROTOCOLO DE SOLICITAÇÃO COM INFORMAÇÕES  SOBRE AS CONSEQUÊNCIAS DO PEDID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orma livre 33"/>
            <p:cNvSpPr/>
            <p:nvPr/>
          </p:nvSpPr>
          <p:spPr>
            <a:xfrm flipH="1">
              <a:off x="7932240" y="3363840"/>
              <a:ext cx="45720" cy="3578400"/>
            </a:xfrm>
            <a:custGeom>
              <a:avLst/>
              <a:gdLst>
                <a:gd name="textAreaLeft" fmla="*/ -360 w 45720"/>
                <a:gd name="textAreaRight" fmla="*/ 45720 w 45720"/>
                <a:gd name="textAreaTop" fmla="*/ 0 h 3578400"/>
                <a:gd name="textAreaBottom" fmla="*/ 3578760 h 3578400"/>
              </a:gdLst>
              <a:ahLst/>
              <a:rect l="textAreaLeft" t="textAreaTop" r="textAreaRight" b="textAreaBottom"/>
              <a:pathLst>
                <a:path w="45261" h="3018063">
                  <a:moveTo>
                    <a:pt x="45720" y="0"/>
                  </a:moveTo>
                  <a:lnTo>
                    <a:pt x="45720" y="14464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orma livre 34"/>
            <p:cNvSpPr/>
            <p:nvPr/>
          </p:nvSpPr>
          <p:spPr>
            <a:xfrm>
              <a:off x="2700360" y="5229360"/>
              <a:ext cx="6281640" cy="792000"/>
            </a:xfrm>
            <a:prstGeom prst="pie">
              <a:avLst/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61200" bIns="612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BENEFICIÁRIO RECEBERÁ COMPROVANTE DE EXCLUSÃO (EFEITO IMEDIATO À DATA DA CIÊNCIA DA OPERADORA/ADM. OU À DATA DA SOLICITAÇÃO QUANDO FEITA À OPERADORA) COM AS  INFORMAÇÕES SOBRE COBRANÇAS E DEVOLU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tângulo 2"/>
          <p:cNvSpPr/>
          <p:nvPr/>
        </p:nvSpPr>
        <p:spPr>
          <a:xfrm>
            <a:off x="3348000" y="2206800"/>
            <a:ext cx="5587920" cy="1157040"/>
          </a:xfrm>
          <a:prstGeom prst="rect">
            <a:avLst/>
          </a:prstGeom>
          <a:noFill/>
          <a:ln w="2556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Conector reto 6"/>
          <p:cNvSpPr/>
          <p:nvPr/>
        </p:nvSpPr>
        <p:spPr>
          <a:xfrm flipV="1">
            <a:off x="7021440" y="1879560"/>
            <a:ext cx="287280" cy="301680"/>
          </a:xfrm>
          <a:prstGeom prst="line">
            <a:avLst/>
          </a:prstGeom>
          <a:ln w="2844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CaixaDeTexto 1"/>
          <p:cNvSpPr/>
          <p:nvPr/>
        </p:nvSpPr>
        <p:spPr>
          <a:xfrm>
            <a:off x="81720" y="2535120"/>
            <a:ext cx="132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Destinatári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Ped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CaixaDeTexto 3"/>
          <p:cNvSpPr/>
          <p:nvPr/>
        </p:nvSpPr>
        <p:spPr>
          <a:xfrm>
            <a:off x="104760" y="3718080"/>
            <a:ext cx="13017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ontato por qualquer meio que comprove a solicitação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Conector de seta reta 66"/>
          <p:cNvCxnSpPr/>
          <p:nvPr/>
        </p:nvCxnSpPr>
        <p:spPr>
          <a:xfrm>
            <a:off x="2273040" y="1943280"/>
            <a:ext cx="1080" cy="592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1" name="Conector de seta reta 87"/>
          <p:cNvCxnSpPr/>
          <p:nvPr/>
        </p:nvCxnSpPr>
        <p:spPr>
          <a:xfrm>
            <a:off x="6659280" y="1942920"/>
            <a:ext cx="1080" cy="28440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2" name="Conector de seta reta 5"/>
          <p:cNvCxnSpPr/>
          <p:nvPr/>
        </p:nvCxnSpPr>
        <p:spPr>
          <a:xfrm>
            <a:off x="2273040" y="3294000"/>
            <a:ext cx="1080" cy="496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3" name="Conector de seta reta 35"/>
          <p:cNvCxnSpPr/>
          <p:nvPr/>
        </p:nvCxnSpPr>
        <p:spPr>
          <a:xfrm>
            <a:off x="4644720" y="3236400"/>
            <a:ext cx="1080" cy="305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4" name="Conector de seta reta 42"/>
          <p:cNvCxnSpPr/>
          <p:nvPr/>
        </p:nvCxnSpPr>
        <p:spPr>
          <a:xfrm>
            <a:off x="5508360" y="4518000"/>
            <a:ext cx="1080" cy="712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5" name="Conector de seta reta 19"/>
          <p:cNvCxnSpPr/>
          <p:nvPr/>
        </p:nvCxnSpPr>
        <p:spPr>
          <a:xfrm>
            <a:off x="3347640" y="4086000"/>
            <a:ext cx="438840" cy="10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6" name="Retângulo de cantos arredondados 39"/>
          <p:cNvSpPr/>
          <p:nvPr/>
        </p:nvSpPr>
        <p:spPr>
          <a:xfrm>
            <a:off x="6019920" y="4662360"/>
            <a:ext cx="1944720" cy="422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AZ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10 DIAS Ú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Conector reto 46"/>
          <p:cNvSpPr/>
          <p:nvPr/>
        </p:nvSpPr>
        <p:spPr>
          <a:xfrm>
            <a:off x="5508720" y="4830840"/>
            <a:ext cx="541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Conector de seta reta 36"/>
          <p:cNvCxnSpPr/>
          <p:nvPr/>
        </p:nvCxnSpPr>
        <p:spPr>
          <a:xfrm>
            <a:off x="7164000" y="3238200"/>
            <a:ext cx="1080" cy="305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9" name="Conector de seta reta 41"/>
          <p:cNvCxnSpPr/>
          <p:nvPr/>
        </p:nvCxnSpPr>
        <p:spPr>
          <a:xfrm>
            <a:off x="4500360" y="1936800"/>
            <a:ext cx="1080" cy="286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0" name="Rounded Rectangle 31"/>
          <p:cNvSpPr/>
          <p:nvPr/>
        </p:nvSpPr>
        <p:spPr>
          <a:xfrm>
            <a:off x="7616880" y="981000"/>
            <a:ext cx="5396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ounded Rectangle 37"/>
          <p:cNvSpPr/>
          <p:nvPr/>
        </p:nvSpPr>
        <p:spPr>
          <a:xfrm>
            <a:off x="7499520" y="1309680"/>
            <a:ext cx="7556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ounded Rectangle 38"/>
          <p:cNvSpPr/>
          <p:nvPr/>
        </p:nvSpPr>
        <p:spPr>
          <a:xfrm>
            <a:off x="7380360" y="1628640"/>
            <a:ext cx="10047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tângulo 2"/>
          <p:cNvSpPr/>
          <p:nvPr/>
        </p:nvSpPr>
        <p:spPr>
          <a:xfrm>
            <a:off x="7308720" y="907920"/>
            <a:ext cx="1187640" cy="1157400"/>
          </a:xfrm>
          <a:prstGeom prst="rect">
            <a:avLst/>
          </a:prstGeom>
          <a:noFill/>
          <a:ln w="2556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ntribuições da D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CaixaDeTexto 3"/>
          <p:cNvSpPr/>
          <p:nvPr/>
        </p:nvSpPr>
        <p:spPr>
          <a:xfrm>
            <a:off x="0" y="105264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olicitações presenciais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deve observar a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N nº 395, de 2016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suas atualizações;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olicitações pela internet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- a operadora deverá disponibilizar acesso ao Portal de Informações do Beneficiário da Saúde Suplementar – PIN-SS em seu portal corporativo, nos termos previstos na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N nº 389, de 2015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suas atualizações; 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Cobrança da multa (prevista em contrato) pela exclusão de beneficiário de contrato coletivo antes da vigência mínima de 12 meses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- poderá ser feita pela Operadora ou Administradora de Benefícios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à pessoa jurídica contratante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erda do direito de remissão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beneficiário será informado da perda do direito de remissão, quando couber, no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ngresso em novo plano de saúde e que arcará com o pagamento de um novo contrato de plano de saúde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que venha a contratar;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Contraprestações pecuniárias vencidas e/ou eventuais coparticipações devidas, nos planos em pré-pagamento ou em pós-pagamento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ela utilização de serviços realizados antes da solicitação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- responsabilidade do beneficiário;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Boleto mensal do período anterior à data de solicit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- será encaminhado ao beneficiário após o efetivo cancelamento ou exclusão do contato de plano de saú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ntribuições da D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CaixaDeTexto 4"/>
          <p:cNvSpPr/>
          <p:nvPr/>
        </p:nvSpPr>
        <p:spPr>
          <a:xfrm>
            <a:off x="0" y="1052640"/>
            <a:ext cx="91440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Coparticip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que já estiverem sendo cobradas em determinado número de parcelas mensais quando da solicit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- continuarão sendo encaminhadas desta mesma forma após o cancelamento ou exclusão do beneficiário do contra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ela Operadora, Administradora de Benefícios ou pessoa jurídica contratante ao beneficiário; </a:t>
            </a:r>
            <a:r>
              <a:rPr b="0" lang="pt-BR" sz="24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devidas pelos serviços realizados antes da data de solicitação - serão cobradas pela Operadora, Administradora de Benefícios ou pessoa jurídica contratante após o efetivo cancelamento ou exclusão do contrato de plano de saúde;</a:t>
            </a:r>
            <a:r>
              <a:rPr b="1" lang="pt-BR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alibri"/>
              </a:rPr>
              <a:t>Já inclu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ntribuições da D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CaixaDeTexto 4"/>
          <p:cNvSpPr/>
          <p:nvPr/>
        </p:nvSpPr>
        <p:spPr>
          <a:xfrm>
            <a:off x="0" y="1052640"/>
            <a:ext cx="91440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Aumento do escopo regulatório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retoria Colegiada recomendou o aumento do escopo regulatório da proposta de resolução normativa de modo a abarcar todo e qualquer tipo de rescisão, inclusive que contemplasse o entendimento exposto na Súmula Normativa nº 28, de 30 de novembro de 2015, que traz esclarecimentos sobre a notificação do beneficiário para fins  do disposto no inciso II do parágrafo único do artigo 13, da Lei nº 9.656, de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d0d0d"/>
                </a:solidFill>
                <a:uFillTx/>
                <a:latin typeface="Calibri"/>
              </a:rPr>
              <a:t>Consideração da área técnica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d0d0d"/>
                </a:solidFill>
                <a:latin typeface="Arial"/>
              </a:rPr>
              <a:t>sugere a manutenção do escopo inicial uma vez que o tema objeto da extensão não foi submetido a discussão na Câmara Técnica e também porque demanda análise mais detalhada retardando ainda mais o atendimento da recomendação do MPF. Continuaremos em estudos para o aprimoramento da regulaçã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Contribuições da D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CaixaDeTexto 4"/>
          <p:cNvSpPr/>
          <p:nvPr/>
        </p:nvSpPr>
        <p:spPr>
          <a:xfrm>
            <a:off x="0" y="1052640"/>
            <a:ext cx="914400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peradora em alienação compulsória, oferta pública ou portabilida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s pessoas jurídicas contratantes (contratos coletivos empresariais ou por adesão) poderão solicitar de imediato a rescisão do referido instrumento no momento em que for iniciado o movimento de saída ordenada da Operadora do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d0d0d"/>
                </a:solidFill>
                <a:uFillTx/>
                <a:latin typeface="Calibri"/>
              </a:rPr>
              <a:t>Consideração da área técnica</a:t>
            </a:r>
            <a:r>
              <a:rPr b="0" lang="pt-BR" sz="2000" spc="-1" strike="noStrike">
                <a:solidFill>
                  <a:srgbClr val="0d0d0d"/>
                </a:solidFill>
                <a:latin typeface="Calibri"/>
              </a:rPr>
              <a:t>: </a:t>
            </a:r>
            <a:r>
              <a:rPr b="0" lang="pt-BR" sz="2000" spc="-1" strike="noStrike">
                <a:solidFill>
                  <a:srgbClr val="0d0d0d"/>
                </a:solidFill>
                <a:latin typeface="Arial"/>
              </a:rPr>
              <a:t>sugere que tal disposição seja prevista diretamente nas Resoluções Operacionais, uma vez que tal medida poderá ter um impacto negativo e provocar o esvaziamento de propostas de aquisição de carteira por alienação compulsória, bem como de oferta públic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tângulo 5"/>
          <p:cNvSpPr/>
          <p:nvPr/>
        </p:nvSpPr>
        <p:spPr>
          <a:xfrm>
            <a:off x="6732720" y="1628640"/>
            <a:ext cx="19810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CaixaDeTexto 1"/>
          <p:cNvSpPr/>
          <p:nvPr/>
        </p:nvSpPr>
        <p:spPr>
          <a:xfrm>
            <a:off x="826920" y="260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  <a:ea typeface="Arial"/>
              </a:rPr>
              <a:t>QUADRO</a:t>
            </a:r>
            <a:r>
              <a:rPr b="1" lang="pt-BR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pt-BR" sz="2400" spc="-1" strike="noStrike">
                <a:solidFill>
                  <a:srgbClr val="006699"/>
                </a:solidFill>
                <a:latin typeface="Calibri"/>
                <a:ea typeface="Arial"/>
              </a:rPr>
              <a:t>COMPARATIVO</a:t>
            </a:r>
            <a:r>
              <a:rPr b="1" lang="pt-BR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539640" y="1413000"/>
          <a:ext cx="8229600" cy="4613040"/>
        </p:xfrm>
        <a:graphic>
          <a:graphicData uri="http://schemas.openxmlformats.org/drawingml/2006/table">
            <a:tbl>
              <a:tblPr/>
              <a:tblGrid>
                <a:gridCol w="2141640"/>
                <a:gridCol w="1978200"/>
                <a:gridCol w="2415960"/>
                <a:gridCol w="1693800"/>
              </a:tblGrid>
              <a:tr h="556920">
                <a:tc>
                  <a:txBody>
                    <a:bodyPr lIns="10800" rIns="10800" tIns="108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INDIVIDUAL OU FAMILI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OLETIVO POR ADES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COLETIVO EMPRESA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6019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ITO IMEDI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, a partir da solicit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, a partir da ciência da OPS ou A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, na ciência da 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4921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TINATÁRIO DA SOLICI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, ADM ou P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J contrat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</a:tr>
              <a:tr h="6127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COBRANÇA AO CONSUMI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4474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DEVOLUÇÃO DE PRO-R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d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d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d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</a:tr>
              <a:tr h="70020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ENTREGA DO COMPROVANTE DE CANCEL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ias út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ias út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dias úte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45900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ITO DE ARREPEND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</a:tr>
              <a:tr h="74268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IS DE SOLICIT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, PRESENCIAL,             PORTAL DA 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, PRESENCIAL,                        PORTAL DA OPS,                                     PJ Contr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J contrat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Espaço Reservado para Número de Slide 4"/>
          <p:cNvSpPr/>
          <p:nvPr/>
        </p:nvSpPr>
        <p:spPr>
          <a:xfrm>
            <a:off x="533520" y="651996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EBF4-13D9-4D5A-A8DF-4468A84AEC6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6e89"/>
                </a:solidFill>
                <a:latin typeface="Calibri"/>
              </a:rPr>
              <a:t>Obrigado!</a:t>
            </a:r>
            <a:br>
              <a:rPr sz="28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r>
              <a:rPr b="1" lang="pt-BR" sz="2000" spc="-1" strike="noStrike">
                <a:solidFill>
                  <a:srgbClr val="006699"/>
                </a:solidFill>
                <a:latin typeface="Calibri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78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Arial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680" name="CaixaDeTexto 12"/>
          <p:cNvSpPr/>
          <p:nvPr/>
        </p:nvSpPr>
        <p:spPr>
          <a:xfrm>
            <a:off x="3214440" y="36482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Arial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682" name="CaixaDeTexto 3"/>
          <p:cNvSpPr/>
          <p:nvPr/>
        </p:nvSpPr>
        <p:spPr>
          <a:xfrm>
            <a:off x="5571360" y="363852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Arial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Arial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684" name="CaixaDeTexto 1"/>
          <p:cNvSpPr/>
          <p:nvPr/>
        </p:nvSpPr>
        <p:spPr>
          <a:xfrm>
            <a:off x="7628400" y="363528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Arial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70c0"/>
                </a:solidFill>
                <a:latin typeface="Calibri"/>
              </a:rPr>
              <a:t>RECOMENDAÇÃO PR/RJ/CG Nº 05/2014</a:t>
            </a: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 </a:t>
            </a:r>
            <a:br>
              <a:rPr sz="9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1196640"/>
            <a:ext cx="91440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MINISTÉRIO PÚBLICO FEDERAL – PROCURADORIA DA REPÚBLICA NO ESTADO DO RJ - Ofício PR/RJ/CG/Nº 11423/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ificuldades em relação ao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ancelamento do plano de saúde pelo consumidor → Procedimento Administrativo nº 1.30.001.003450/2012-00(ICP 695/2012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, que trata de possíveis irregularidades na atuação desta A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e46c0a"/>
                </a:solidFill>
                <a:latin typeface="Calibri"/>
              </a:rPr>
              <a:t>RECOMENDAÇÃO PR/RJ/CG Nº 05/2014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ição de ato normativo, 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a fim de regulamentar as formas de rescisão unilateral dos contratos de plano privado de assistência à saúde pelo consumidor, observado o disposto no Decreto 6.523/2008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Prazo: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60 (sessenta) dias út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nstituição de Câmara Técnica: </a:t>
            </a:r>
            <a:r>
              <a:rPr b="0" lang="pt-BR" sz="2000" spc="-1" strike="noStrike">
                <a:solidFill>
                  <a:srgbClr val="ff0000"/>
                </a:solidFill>
                <a:latin typeface="Calibri"/>
              </a:rPr>
              <a:t>Reunião DICOL de 22/10/201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REGULAMENTAÇÃO DO CANCELAMENTO/EXCLUSÃO DE CONTRATO DE PLANO DE SAÚDE  A PEDIDO DO BENEFICIÁR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CaixaDeTexto 3"/>
          <p:cNvSpPr/>
          <p:nvPr/>
        </p:nvSpPr>
        <p:spPr>
          <a:xfrm>
            <a:off x="0" y="1052640"/>
            <a:ext cx="9144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Calibri"/>
              </a:rPr>
              <a:t>GRUPO TÉCNICO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PRO: Alex Abreu, Cristiane Arruda (coordenadora), Márcia Assis, Lalucha Silva, Fabiana Papace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FIS: Frederico Cortez/Alexandra Ca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GES: Flavia 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DES: Lizzie Neri/Conceição G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OPE: Fernanda 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GER: Fabrícia Vasconc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uniões do grupo técnico: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09/01/2015; 15/01/2015; 28/01/2015; 12/02/2015; 03/06/2015; 17/06/2015; 24/06/2015 e 01/07/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Reuniões da Câmara Técnica da Regulamentação do Pedido de Cancelamento/Exclusão de Beneficiários de Planos de Saúde: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10/12/2014, 30/03/2015 e 19/08/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RECOMENDAÇÃO DO MINISTÉRIO PÚBLICO FED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tângulo de cantos arredondados 3"/>
          <p:cNvSpPr/>
          <p:nvPr/>
        </p:nvSpPr>
        <p:spPr>
          <a:xfrm>
            <a:off x="179280" y="1282680"/>
            <a:ext cx="8856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FORMAS DE PEDIDO DE CANCELAMENT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presencial,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por meio de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erviço de Atendimento Telefônico ao Consumidor (SAC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); por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art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; por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orreio eletrônico (e-mail)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e por atendimento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via Internet, através do </a:t>
            </a:r>
            <a:r>
              <a:rPr b="1" i="1" lang="pt-BR" sz="1800" spc="-1" strike="noStrike">
                <a:solidFill>
                  <a:srgbClr val="000000"/>
                </a:solidFill>
                <a:latin typeface="Calibri"/>
              </a:rPr>
              <a:t>site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 da Operadora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tângulo de cantos arredondados 4"/>
          <p:cNvSpPr/>
          <p:nvPr/>
        </p:nvSpPr>
        <p:spPr>
          <a:xfrm>
            <a:off x="179280" y="2492280"/>
            <a:ext cx="8856720" cy="816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FEITO IMEDIATO PARA PEDIDO DE CANCELAMENTO PRESENCIAL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não podendo a Operadora efetuar qualquer cobrança após a apresentação do pe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ângulo de cantos arredondados 5"/>
          <p:cNvSpPr/>
          <p:nvPr/>
        </p:nvSpPr>
        <p:spPr>
          <a:xfrm>
            <a:off x="179280" y="3441600"/>
            <a:ext cx="8856720" cy="88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isponibilização pela operadora ao beneficiário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INFORMAÇÃO CLARA, ADEQUADA E PRECISA ACERCA DAS CONSEQUÊNCIAS DO CANCELAMENT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, especialmente no tocante à perda (perda de carência, perda do exercício da portabilidade,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tângulo de cantos arredondados 6"/>
          <p:cNvSpPr/>
          <p:nvPr/>
        </p:nvSpPr>
        <p:spPr>
          <a:xfrm>
            <a:off x="189000" y="4449600"/>
            <a:ext cx="8858160" cy="81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isponibilização pela Operadora de 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OMPROVANTE DO PEDIDO DE CANCELAMENT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or correio eletrônico, correspondência ou qualquer outro meio, </a:t>
            </a: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a critério do consum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tângulo de cantos arredondados 7"/>
          <p:cNvSpPr/>
          <p:nvPr/>
        </p:nvSpPr>
        <p:spPr>
          <a:xfrm>
            <a:off x="179280" y="5419800"/>
            <a:ext cx="8858520" cy="81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DIREITO DE ARREPENDIMENT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té determinado prazo,  se foi feito por meio remoto (SAC, correio eletrônico ou interne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ASPECTOS DA NOVA REGULAMENTAÇÃ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1"/>
          <p:cNvSpPr/>
          <p:nvPr/>
        </p:nvSpPr>
        <p:spPr>
          <a:xfrm>
            <a:off x="2916360" y="3429000"/>
            <a:ext cx="3024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ramento específico por tipo de contra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250920" y="4437000"/>
            <a:ext cx="259236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ção da responsabilidade de cada ente envolv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Notched Right Arrow 2"/>
          <p:cNvSpPr/>
          <p:nvPr/>
        </p:nvSpPr>
        <p:spPr>
          <a:xfrm rot="7753800">
            <a:off x="5527440" y="2638080"/>
            <a:ext cx="1104840" cy="355680"/>
          </a:xfrm>
          <a:custGeom>
            <a:avLst/>
            <a:gdLst>
              <a:gd name="textAreaLeft" fmla="*/ 88560 w 1104840"/>
              <a:gd name="textAreaRight" fmla="*/ 1016280 w 110484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133" y="5400"/>
                </a:lnTo>
                <a:lnTo>
                  <a:pt x="18133" y="0"/>
                </a:lnTo>
                <a:lnTo>
                  <a:pt x="21600" y="10800"/>
                </a:lnTo>
                <a:lnTo>
                  <a:pt x="18133" y="21600"/>
                </a:lnTo>
                <a:lnTo>
                  <a:pt x="18133" y="16200"/>
                </a:lnTo>
                <a:lnTo>
                  <a:pt x="0" y="16200"/>
                </a:lnTo>
                <a:lnTo>
                  <a:pt x="173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022560" y="4437000"/>
            <a:ext cx="287964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Fornecimento do comprovante de solicitação contendo as informações do art. 17. Efeito Imediato do cancel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6080040" y="4405320"/>
            <a:ext cx="280836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0d0d"/>
                </a:solidFill>
                <a:latin typeface="Calibri"/>
              </a:rPr>
              <a:t>Fornecimento do comprovante do  CANCELAMENTO contendo as informações do art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>
            <a:off x="2916360" y="5589720"/>
            <a:ext cx="3024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ção de prazos para entrega dos compro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Notched Right Arrow 9"/>
          <p:cNvSpPr/>
          <p:nvPr/>
        </p:nvSpPr>
        <p:spPr>
          <a:xfrm rot="5400000">
            <a:off x="3958560" y="2602800"/>
            <a:ext cx="1008000" cy="355680"/>
          </a:xfrm>
          <a:custGeom>
            <a:avLst/>
            <a:gdLst>
              <a:gd name="textAreaLeft" fmla="*/ 89280 w 1008000"/>
              <a:gd name="textAreaRight" fmla="*/ 918720 w 100800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775" y="5400"/>
                </a:lnTo>
                <a:lnTo>
                  <a:pt x="17775" y="0"/>
                </a:lnTo>
                <a:lnTo>
                  <a:pt x="21600" y="10800"/>
                </a:lnTo>
                <a:lnTo>
                  <a:pt x="17775" y="21600"/>
                </a:lnTo>
                <a:lnTo>
                  <a:pt x="17775" y="16200"/>
                </a:lnTo>
                <a:lnTo>
                  <a:pt x="0" y="16200"/>
                </a:lnTo>
                <a:lnTo>
                  <a:pt x="191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Notched Right Arrow 10"/>
          <p:cNvSpPr/>
          <p:nvPr/>
        </p:nvSpPr>
        <p:spPr>
          <a:xfrm rot="2939400">
            <a:off x="2236320" y="2614320"/>
            <a:ext cx="1109520" cy="373320"/>
          </a:xfrm>
          <a:custGeom>
            <a:avLst/>
            <a:gdLst>
              <a:gd name="textAreaLeft" fmla="*/ 93240 w 1109520"/>
              <a:gd name="textAreaRight" fmla="*/ 1016280 w 1109520"/>
              <a:gd name="textAreaTop" fmla="*/ 93240 h 373320"/>
              <a:gd name="textAreaBottom" fmla="*/ 280080 h 37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969" y="5400"/>
                </a:lnTo>
                <a:lnTo>
                  <a:pt x="17969" y="0"/>
                </a:lnTo>
                <a:lnTo>
                  <a:pt x="21600" y="10800"/>
                </a:lnTo>
                <a:lnTo>
                  <a:pt x="17969" y="21600"/>
                </a:lnTo>
                <a:lnTo>
                  <a:pt x="17969" y="16200"/>
                </a:lnTo>
                <a:lnTo>
                  <a:pt x="0" y="16200"/>
                </a:lnTo>
                <a:lnTo>
                  <a:pt x="181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Rectangle 11" descr=""/>
          <p:cNvPicPr/>
          <p:nvPr/>
        </p:nvPicPr>
        <p:blipFill>
          <a:blip r:embed="rId1"/>
          <a:stretch/>
        </p:blipFill>
        <p:spPr>
          <a:xfrm>
            <a:off x="2266920" y="1127160"/>
            <a:ext cx="1530360" cy="396720"/>
          </a:xfrm>
          <a:prstGeom prst="rect">
            <a:avLst/>
          </a:prstGeom>
          <a:ln w="0">
            <a:noFill/>
          </a:ln>
        </p:spPr>
      </p:pic>
      <p:pic>
        <p:nvPicPr>
          <p:cNvPr id="581" name="Rectangle 12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2633760" cy="403200"/>
          </a:xfrm>
          <a:prstGeom prst="rect">
            <a:avLst/>
          </a:prstGeom>
          <a:ln w="0">
            <a:noFill/>
          </a:ln>
        </p:spPr>
      </p:pic>
      <p:pic>
        <p:nvPicPr>
          <p:cNvPr id="582" name="Rectangle 13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683080" cy="403200"/>
          </a:xfrm>
          <a:prstGeom prst="rect">
            <a:avLst/>
          </a:prstGeom>
          <a:ln w="0">
            <a:noFill/>
          </a:ln>
        </p:spPr>
      </p:pic>
      <p:pic>
        <p:nvPicPr>
          <p:cNvPr id="583" name="Rectangle 14" descr=""/>
          <p:cNvPicPr/>
          <p:nvPr/>
        </p:nvPicPr>
        <p:blipFill>
          <a:blip r:embed="rId4"/>
          <a:stretch/>
        </p:blipFill>
        <p:spPr>
          <a:xfrm>
            <a:off x="4784760" y="1127160"/>
            <a:ext cx="200664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REGRAS GERAIS PARA PEDIDO DE CANCELAMENTO DE PLANO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23640" y="134136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CANAIS DE SOLICITAÇÃ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 algn="just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resenc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 algn="just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S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 algn="just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letrônic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via portal da OPS (link específic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48520" indent="-452520" algn="just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INFORMAÇÕES SOBRE EFEITOS DO CANCELAMENT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obrigatória em todos os casos (carta de orientação sugerida pela ANS) a ser realizada no ato da solicit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EFEITO IMEDIAT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em todas as situações, a partir da data de recebimento pela OPS ou Administradora (quando couber)do pedido de cancela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DIREITO DE ARREPENDIMENTO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nã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RAZO PARA ENVIO DE COMPROVANTE do CANCELAMENTO –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0 dias úteis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</a:rPr>
              <a:t>e deverá conter todas as informações sobre cobranças de coparticipação, pagamento de reembolso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RAZO PARA COBRANÇAS POSTERIORE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(co-participação/mensalidade/utilização) – até </a:t>
            </a:r>
            <a:r>
              <a:rPr b="0" lang="pt-BR" sz="1800" spc="-1" strike="noStrike">
                <a:solidFill>
                  <a:srgbClr val="0d0d0d"/>
                </a:solidFill>
                <a:latin typeface="Calibri"/>
              </a:rPr>
              <a:t>3 anos (prescriçã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PRAZO PARA DEVOLUÇÃO DE PRO RATA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– até 120 dias (devolução da mensalidade quando o cancelamento for no interstício do mês já pag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  <a:ea typeface="Arial"/>
              </a:rPr>
              <a:t>OUTROS ASPECTOS DA NOVA REGULAMENTA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CaixaDeTexto 4"/>
          <p:cNvSpPr/>
          <p:nvPr/>
        </p:nvSpPr>
        <p:spPr>
          <a:xfrm>
            <a:off x="324000" y="1341360"/>
            <a:ext cx="8604000" cy="46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azo para devolução pro-rata dos valores já adimplidos pelo consumidor relativos ao período posterior ao cancelamento. </a:t>
            </a: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A mesma lógica já prevista pelo parágrafo único do art.11 da IN 19, nos casos de portabilida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isponibilização de informação ao consumid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Arial"/>
              </a:rPr>
              <a:t>a) Divulgação de informações, no ato da solicitação, sobre as consequências do pedido de cancelamento ou exclusão do plano de saúde na página da ANS na internet e nos portais corporativos das operadoras/administradoras de benefíci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  <a:ea typeface="Arial"/>
              </a:rPr>
              <a:t>b) Elaboração de cartilha a ser divulgada na página da ANS para orientar o consumidor sobre o pedido de cancelamento ou exclusão do plano de saú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PLANO INDIVIDUAL OU FAMILIAR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09440" y="1096920"/>
            <a:ext cx="8785440" cy="4969080"/>
          </a:xfrm>
          <a:prstGeom prst="rect">
            <a:avLst/>
          </a:prstGeom>
          <a:ln w="0">
            <a:noFill/>
          </a:ln>
        </p:spPr>
      </p:pic>
      <p:sp>
        <p:nvSpPr>
          <p:cNvPr id="590" name="CaixaDeTexto 1"/>
          <p:cNvSpPr/>
          <p:nvPr/>
        </p:nvSpPr>
        <p:spPr>
          <a:xfrm>
            <a:off x="1332000" y="2997360"/>
            <a:ext cx="153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Destinatário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Ped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luxograma: Processo alternativo 15374"/>
          <p:cNvSpPr/>
          <p:nvPr/>
        </p:nvSpPr>
        <p:spPr>
          <a:xfrm>
            <a:off x="6421320" y="4076640"/>
            <a:ext cx="1535400" cy="504720"/>
          </a:xfrm>
          <a:prstGeom prst="flowChartAlternateProcess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AZ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10 DIAS Ú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Conector de seta reta 15420"/>
          <p:cNvCxnSpPr/>
          <p:nvPr/>
        </p:nvCxnSpPr>
        <p:spPr>
          <a:xfrm>
            <a:off x="5795640" y="4301640"/>
            <a:ext cx="626040" cy="1080"/>
          </a:xfrm>
          <a:prstGeom prst="straightConnector1">
            <a:avLst/>
          </a:prstGeom>
          <a:ln w="255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593" name="CaixaDeTexto 11"/>
          <p:cNvSpPr/>
          <p:nvPr/>
        </p:nvSpPr>
        <p:spPr>
          <a:xfrm>
            <a:off x="900000" y="590400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* A ser seguido também nos planos de autogestões por RH (art. 2º, I, da RN 137/06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7"/>
          <p:cNvSpPr/>
          <p:nvPr/>
        </p:nvSpPr>
        <p:spPr>
          <a:xfrm>
            <a:off x="8121600" y="1557360"/>
            <a:ext cx="5396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ounded Rectangle 17"/>
          <p:cNvSpPr/>
          <p:nvPr/>
        </p:nvSpPr>
        <p:spPr>
          <a:xfrm>
            <a:off x="8004240" y="1886040"/>
            <a:ext cx="753840" cy="21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18"/>
          <p:cNvSpPr/>
          <p:nvPr/>
        </p:nvSpPr>
        <p:spPr>
          <a:xfrm>
            <a:off x="7885080" y="2205000"/>
            <a:ext cx="1003320" cy="28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ESE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ângulo 2"/>
          <p:cNvSpPr/>
          <p:nvPr/>
        </p:nvSpPr>
        <p:spPr>
          <a:xfrm>
            <a:off x="3419640" y="2708280"/>
            <a:ext cx="4032000" cy="1157400"/>
          </a:xfrm>
          <a:prstGeom prst="rect">
            <a:avLst/>
          </a:prstGeom>
          <a:noFill/>
          <a:ln w="2556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Conector reto 6"/>
          <p:cNvSpPr/>
          <p:nvPr/>
        </p:nvSpPr>
        <p:spPr>
          <a:xfrm flipV="1">
            <a:off x="7451640" y="2492280"/>
            <a:ext cx="360360" cy="301680"/>
          </a:xfrm>
          <a:prstGeom prst="line">
            <a:avLst/>
          </a:prstGeom>
          <a:ln w="2844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tângulo 2"/>
          <p:cNvSpPr/>
          <p:nvPr/>
        </p:nvSpPr>
        <p:spPr>
          <a:xfrm>
            <a:off x="7812000" y="1484280"/>
            <a:ext cx="1187640" cy="1157400"/>
          </a:xfrm>
          <a:prstGeom prst="rect">
            <a:avLst/>
          </a:prstGeom>
          <a:noFill/>
          <a:ln w="25560">
            <a:solidFill>
              <a:srgbClr val="95373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Calibri"/>
              </a:rPr>
              <a:t>PLANO COLETIVO EMPRESA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tângulo de cantos arredondados 6"/>
          <p:cNvSpPr/>
          <p:nvPr/>
        </p:nvSpPr>
        <p:spPr>
          <a:xfrm>
            <a:off x="395280" y="1155600"/>
            <a:ext cx="8497800" cy="91440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Iníc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tângulo de cantos arredondados 10"/>
          <p:cNvSpPr/>
          <p:nvPr/>
        </p:nvSpPr>
        <p:spPr>
          <a:xfrm>
            <a:off x="395280" y="2211480"/>
            <a:ext cx="8496360" cy="9982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Destinatário 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Pedi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tângulo de cantos arredondados 11"/>
          <p:cNvSpPr/>
          <p:nvPr/>
        </p:nvSpPr>
        <p:spPr>
          <a:xfrm>
            <a:off x="395280" y="3357720"/>
            <a:ext cx="8497800" cy="12952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Retângulo de cantos arredondados 15"/>
          <p:cNvGrpSpPr/>
          <p:nvPr/>
        </p:nvGrpSpPr>
        <p:grpSpPr>
          <a:xfrm>
            <a:off x="2719440" y="1238400"/>
            <a:ext cx="5254560" cy="706320"/>
            <a:chOff x="2719440" y="1238400"/>
            <a:chExt cx="5254560" cy="706320"/>
          </a:xfrm>
        </p:grpSpPr>
        <p:pic>
          <p:nvPicPr>
            <p:cNvPr id="605" name="Retângulo de cantos arredondados 15" descr=""/>
            <p:cNvPicPr/>
            <p:nvPr/>
          </p:nvPicPr>
          <p:blipFill>
            <a:blip r:embed="rId1"/>
            <a:stretch/>
          </p:blipFill>
          <p:spPr>
            <a:xfrm>
              <a:off x="2719440" y="1238400"/>
              <a:ext cx="52545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2787480" y="1284120"/>
              <a:ext cx="51134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BENEFICIÁRIO DESEJA SOLICITAR A EXCLUSÃO DO SE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PLANO DE SAÚ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upo 18"/>
          <p:cNvGrpSpPr/>
          <p:nvPr/>
        </p:nvGrpSpPr>
        <p:grpSpPr>
          <a:xfrm>
            <a:off x="2795760" y="2200320"/>
            <a:ext cx="5143320" cy="844560"/>
            <a:chOff x="2795760" y="2200320"/>
            <a:chExt cx="5143320" cy="844560"/>
          </a:xfrm>
        </p:grpSpPr>
        <p:grpSp>
          <p:nvGrpSpPr>
            <p:cNvPr id="608" name="Retângulo de cantos arredondados 19"/>
            <p:cNvGrpSpPr/>
            <p:nvPr/>
          </p:nvGrpSpPr>
          <p:grpSpPr>
            <a:xfrm>
              <a:off x="2795760" y="2316240"/>
              <a:ext cx="5143320" cy="658440"/>
              <a:chOff x="2795760" y="2316240"/>
              <a:chExt cx="5143320" cy="658440"/>
            </a:xfrm>
          </p:grpSpPr>
          <p:pic>
            <p:nvPicPr>
              <p:cNvPr id="609" name="Retângulo de cantos arredondados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5760" y="2316240"/>
                <a:ext cx="5143320" cy="65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2862720" y="2364480"/>
                <a:ext cx="500904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Retângulo 20"/>
            <p:cNvSpPr/>
            <p:nvPr/>
          </p:nvSpPr>
          <p:spPr>
            <a:xfrm>
              <a:off x="3374280" y="2200320"/>
              <a:ext cx="4463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66560"/>
                  <a:tab algn="l" pos="933480"/>
                  <a:tab algn="l" pos="1400040"/>
                  <a:tab algn="l" pos="1866960"/>
                  <a:tab algn="l" pos="2333520"/>
                  <a:tab algn="l" pos="2800440"/>
                  <a:tab algn="l" pos="3267000"/>
                  <a:tab algn="l" pos="3733920"/>
                  <a:tab algn="l" pos="4200480"/>
                  <a:tab algn="l" pos="4667400"/>
                  <a:tab algn="l" pos="5133960"/>
                  <a:tab algn="l" pos="5600880"/>
                  <a:tab algn="l" pos="6067440"/>
                  <a:tab algn="l" pos="6534000"/>
                  <a:tab algn="l" pos="7000920"/>
                  <a:tab algn="l" pos="7467480"/>
                  <a:tab algn="l" pos="7934400"/>
                  <a:tab algn="l" pos="8400960"/>
                  <a:tab algn="l" pos="8867880"/>
                  <a:tab algn="l" pos="9334440"/>
                </a:tabLst>
              </a:pPr>
              <a:r>
                <a:rPr b="1" lang="pt-BR" sz="1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BENEFICIÁRIO SOLICITA A EXCLUSÃO À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66560"/>
                  <a:tab algn="l" pos="933480"/>
                  <a:tab algn="l" pos="1400040"/>
                  <a:tab algn="l" pos="1866960"/>
                  <a:tab algn="l" pos="2333520"/>
                  <a:tab algn="l" pos="2800440"/>
                  <a:tab algn="l" pos="3267000"/>
                  <a:tab algn="l" pos="3733920"/>
                  <a:tab algn="l" pos="4200480"/>
                  <a:tab algn="l" pos="4667400"/>
                  <a:tab algn="l" pos="5133960"/>
                  <a:tab algn="l" pos="5600880"/>
                  <a:tab algn="l" pos="6067440"/>
                  <a:tab algn="l" pos="6534000"/>
                  <a:tab algn="l" pos="7000920"/>
                  <a:tab algn="l" pos="7467480"/>
                  <a:tab algn="l" pos="7934400"/>
                  <a:tab algn="l" pos="8400960"/>
                  <a:tab algn="l" pos="8867880"/>
                  <a:tab algn="l" pos="933444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PESSOA  JURÍDICA CONTRAT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Fluxograma: Processo 8"/>
          <p:cNvSpPr/>
          <p:nvPr/>
        </p:nvSpPr>
        <p:spPr>
          <a:xfrm>
            <a:off x="395280" y="3465360"/>
            <a:ext cx="1944720" cy="738360"/>
          </a:xfrm>
          <a:prstGeom prst="flowChartProcess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Contato por qualq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meio que comprove  a solicitaçã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upo 22"/>
          <p:cNvGrpSpPr/>
          <p:nvPr/>
        </p:nvGrpSpPr>
        <p:grpSpPr>
          <a:xfrm>
            <a:off x="2268360" y="3373560"/>
            <a:ext cx="2087640" cy="1144440"/>
            <a:chOff x="2268360" y="3373560"/>
            <a:chExt cx="2087640" cy="1144440"/>
          </a:xfrm>
        </p:grpSpPr>
        <p:grpSp>
          <p:nvGrpSpPr>
            <p:cNvPr id="614" name="Retângulo de cantos arredondados 23"/>
            <p:cNvGrpSpPr/>
            <p:nvPr/>
          </p:nvGrpSpPr>
          <p:grpSpPr>
            <a:xfrm>
              <a:off x="2316240" y="3373560"/>
              <a:ext cx="1694880" cy="919800"/>
              <a:chOff x="2316240" y="3373560"/>
              <a:chExt cx="1694880" cy="919800"/>
            </a:xfrm>
          </p:grpSpPr>
          <p:pic>
            <p:nvPicPr>
              <p:cNvPr id="615" name="Retângulo de cantos arredondados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2316240" y="3373560"/>
                <a:ext cx="1694880" cy="91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6" name=""/>
              <p:cNvSpPr/>
              <p:nvPr/>
            </p:nvSpPr>
            <p:spPr>
              <a:xfrm>
                <a:off x="2394000" y="3425760"/>
                <a:ext cx="1537560" cy="73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ffffff"/>
                    </a:solidFill>
                    <a:latin typeface="Calibri"/>
                  </a:rPr>
                  <a:t>ENVIO DA SOLICITAÇÃO À OPERADOR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Retângulo 24"/>
            <p:cNvSpPr/>
            <p:nvPr/>
          </p:nvSpPr>
          <p:spPr>
            <a:xfrm>
              <a:off x="2268360" y="3381840"/>
              <a:ext cx="208764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tângulo de cantos arredondados 25"/>
          <p:cNvSpPr/>
          <p:nvPr/>
        </p:nvSpPr>
        <p:spPr>
          <a:xfrm>
            <a:off x="4492800" y="3394080"/>
            <a:ext cx="425592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107b"/>
              </a:gs>
              <a:gs pos="100000">
                <a:srgbClr val="ff24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OPERADORA ENVIA  AO BENEFICIÁRIO O COMPROVANTE DA SOLICITAÇÃO (EFEITO IMEDIATO À DATA DA CIÊNCIA DA OPERADORA) INFORMANDO AS CONSEQUÊNCIAS DA EXCLUSÃO DO PL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uxograma: Processo alternativo 30"/>
          <p:cNvSpPr/>
          <p:nvPr/>
        </p:nvSpPr>
        <p:spPr>
          <a:xfrm>
            <a:off x="6588000" y="4362480"/>
            <a:ext cx="2160720" cy="287280"/>
          </a:xfrm>
          <a:prstGeom prst="flowChartAlternateProcess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PRAZO DE 10 DIAS ÚTE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Conector de seta reta 37"/>
          <p:cNvCxnSpPr/>
          <p:nvPr/>
        </p:nvCxnSpPr>
        <p:spPr>
          <a:xfrm>
            <a:off x="5597280" y="1798560"/>
            <a:ext cx="1080" cy="5515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1" name="Conector de seta reta 42"/>
          <p:cNvCxnSpPr/>
          <p:nvPr/>
        </p:nvCxnSpPr>
        <p:spPr>
          <a:xfrm>
            <a:off x="3311280" y="2895120"/>
            <a:ext cx="1080" cy="4993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2" name="Conector de seta reta 50"/>
          <p:cNvCxnSpPr/>
          <p:nvPr/>
        </p:nvCxnSpPr>
        <p:spPr>
          <a:xfrm>
            <a:off x="3954240" y="3789360"/>
            <a:ext cx="546480" cy="21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3" name="Conector de seta reta 63"/>
          <p:cNvCxnSpPr/>
          <p:nvPr/>
        </p:nvCxnSpPr>
        <p:spPr>
          <a:xfrm>
            <a:off x="6084360" y="4292280"/>
            <a:ext cx="1080" cy="6260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4" name="Retângulo de cantos arredondados 18436"/>
          <p:cNvSpPr/>
          <p:nvPr/>
        </p:nvSpPr>
        <p:spPr>
          <a:xfrm>
            <a:off x="393840" y="4917960"/>
            <a:ext cx="8497800" cy="93528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Operadora responde à que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lhe encaminhou a solicitaçã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Calibri"/>
              </a:rPr>
              <a:t>PJ e ao beneficiári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Grupo 71"/>
          <p:cNvGrpSpPr/>
          <p:nvPr/>
        </p:nvGrpSpPr>
        <p:grpSpPr>
          <a:xfrm>
            <a:off x="3564000" y="4917960"/>
            <a:ext cx="4618080" cy="835200"/>
            <a:chOff x="3564000" y="4917960"/>
            <a:chExt cx="4618080" cy="835200"/>
          </a:xfrm>
        </p:grpSpPr>
        <p:grpSp>
          <p:nvGrpSpPr>
            <p:cNvPr id="626" name="Retângulo de cantos arredondados 72"/>
            <p:cNvGrpSpPr/>
            <p:nvPr/>
          </p:nvGrpSpPr>
          <p:grpSpPr>
            <a:xfrm>
              <a:off x="3564000" y="4917960"/>
              <a:ext cx="4618080" cy="835200"/>
              <a:chOff x="3564000" y="4917960"/>
              <a:chExt cx="4618080" cy="835200"/>
            </a:xfrm>
          </p:grpSpPr>
          <p:pic>
            <p:nvPicPr>
              <p:cNvPr id="627" name="Retângulo de cantos arredondados 72" descr=""/>
              <p:cNvPicPr/>
              <p:nvPr/>
            </p:nvPicPr>
            <p:blipFill>
              <a:blip r:embed="rId4"/>
              <a:stretch/>
            </p:blipFill>
            <p:spPr>
              <a:xfrm>
                <a:off x="3564000" y="4917960"/>
                <a:ext cx="4618080" cy="83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3639240" y="4965120"/>
                <a:ext cx="4466520" cy="69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9" name="Retângulo 73"/>
            <p:cNvSpPr/>
            <p:nvPr/>
          </p:nvSpPr>
          <p:spPr>
            <a:xfrm>
              <a:off x="3635280" y="4960440"/>
              <a:ext cx="447408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533520"/>
                  <a:tab algn="l" pos="1066680"/>
                  <a:tab algn="l" pos="1600200"/>
                  <a:tab algn="l" pos="2133720"/>
                  <a:tab algn="l" pos="2666880"/>
                  <a:tab algn="l" pos="3200400"/>
                  <a:tab algn="l" pos="3733920"/>
                  <a:tab algn="l" pos="4267080"/>
                  <a:tab algn="l" pos="4800600"/>
                  <a:tab algn="l" pos="5334120"/>
                  <a:tab algn="l" pos="5867280"/>
                  <a:tab algn="l" pos="6400800"/>
                  <a:tab algn="l" pos="6934320"/>
                  <a:tab algn="l" pos="7467480"/>
                  <a:tab algn="l" pos="8001000"/>
                  <a:tab algn="l" pos="8534520"/>
                  <a:tab algn="l" pos="9067680"/>
                  <a:tab algn="l" pos="9601200"/>
                  <a:tab algn="l" pos="10134720"/>
                  <a:tab algn="l" pos="10667880"/>
                </a:tabLst>
              </a:pPr>
              <a:r>
                <a:rPr b="1" lang="pt-BR" sz="1400" spc="-1" strike="noStrike">
                  <a:solidFill>
                    <a:srgbClr val="ffffff"/>
                  </a:solidFill>
                  <a:latin typeface="Calibri"/>
                </a:rPr>
                <a:t>COMPROVANTE DE EXCLUSÃO DO BENEFICIÁRIO (EFEITO IMEDIATO À DATA DA CIÊNCIA DA OPERADORA) COM AS  INFORMAÇÕES SOBRE COBRANÇAS E DEVOLU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Conector reto 21"/>
          <p:cNvSpPr/>
          <p:nvPr/>
        </p:nvSpPr>
        <p:spPr>
          <a:xfrm>
            <a:off x="6084720" y="4506840"/>
            <a:ext cx="5032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de Figueiredo Soares</cp:lastModifiedBy>
  <cp:lastPrinted>2015-07-29T19:55:05Z</cp:lastPrinted>
  <dcterms:modified xsi:type="dcterms:W3CDTF">2016-07-07T21:26:30Z</dcterms:modified>
  <cp:revision>721</cp:revision>
  <dc:subject/>
  <dc:title>Slide 1</dc:title>
</cp:coreProperties>
</file>